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54F-BC33-4A42-81F7-C08BD5B5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122-3DE5-4796-BAC6-B1C80431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778-86A1-47BA-AD86-A6A05C67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A2C-9217-4F46-9AAE-100ED153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E78-01B4-48F4-BBCC-1B07CC22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594-AB1F-4492-ACAA-FE902FA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CEB-87FE-4A6F-9456-C53BE18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25F-7244-48B4-982D-1731D3F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EF0-25C9-4509-9F36-068DA18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1CD-D8E3-4A2C-B89D-F541B7A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B5F-4292-41A7-8E92-E4B9E4E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E4C-384D-46B0-B02D-D614ABB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DE18-26DC-41ED-818C-7299CFAAE71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Depositional Featu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l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tas occur where a river that carries a large amount of sediment meets a lake or the sea. This meeting causes the river to lose energy and drop the sediment it is carry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tas form two types,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cu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rds foot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arcuate delta is one, which builds out into the sea, extending the coast line, as the Nile Delta does in Egypt. A bird's foot delta is an extension of this a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“fingers”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material form further off the edge of the del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lta of the Mississippi river shows these characteristic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 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ood Plain is the area of alluvial deposits found beside the river in its lower cour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eanders move slowly down the course of the river they erode away the valley to create a wide valley floor, and they deposit layers of alluvial material on the slip off slop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 this builds up into a large flood pl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good example is the Canterbury Plains in New Zealand, where many large rivers have contributed to a huge area of alluvial deposition that has become prime agricultural 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v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es are naturally formed banks along the sides of a river channel in its lower course, as it flows through the flood plai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re formed by the river depositing material when it flo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uring a flood the river deposits its heaviest, coarsest material closest to its normal cour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years this deposition has built up the natural embankments, built of coarse materia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yond them the flood plain has been built up of the finer material that was deposited further away from the normal course of the riv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lab.visual-logic.com/wp-content/uploads/2010/02/levee2.jpg"/>
          <p:cNvPicPr/>
          <p:nvPr/>
        </p:nvPicPr>
        <p:blipFill>
          <a:blip r:embed="rId1"/>
          <a:stretch/>
        </p:blipFill>
        <p:spPr>
          <a:xfrm>
            <a:off x="1857240" y="115920"/>
            <a:ext cx="53294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119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ddle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king spurs, waterfalls, V-shaped valley, gor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ders, Slip-off slopes, ox-bow lak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tas, flood plains, levees, meanders, ox-bow lak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o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ly slow moving. Despite areas of fast flowing water, the large amount of material on the river channel bed means that friction will slow the water dow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ater has increased in speed as the channel widens and becomes smoother. Some boulders cause friction to slow it down a litt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stest section of the river, as the channel is widest, with very smooth sides, and the greatest volume of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2:31:54Z</dcterms:created>
  <dc:creator>Dell_02</dc:creator>
  <dc:description/>
  <dc:language>en-US</dc:language>
  <cp:lastModifiedBy>Dell_02</cp:lastModifiedBy>
  <dcterms:modified xsi:type="dcterms:W3CDTF">2011-01-26T22:44:56Z</dcterms:modified>
  <cp:revision>2</cp:revision>
  <dc:subject/>
  <dc:title>Depositional Features</dc:title>
</cp:coreProperties>
</file>